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F11-D590-4194-A1C0-6E1C619CE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FD00-BE7A-4458-9C6B-EFAB8D21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66C9-529B-48B2-A478-AF58E4B4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C7CD-0022-47D4-B6E9-D03D02DF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4B67D-7DC9-4D9E-BE40-2A5C0CC4D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FDB5C-D964-4502-A5DC-00FDF857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6F16-5956-44A7-BB01-FAA6A699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C75C-6E90-4484-9D21-E5E75B35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BC64-B376-4251-A3A0-6621FF05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33FB-9BAC-4428-A072-6D5F31E6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6A00-647E-4315-AC8B-B312E6187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66DC-40AA-4626-99B6-7430181B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95C4-D202-47F7-BAF3-4296B11E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6D937-27C1-4A0D-A8F8-12956963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65E8-0C45-4CE8-A4A8-AA9985587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ADDF-83F2-4DF7-B5B3-73BCB19A7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2E3FC-24A5-46BE-9048-26D22F413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D036-98F8-4819-BDCF-8A87B98E2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F581-7B46-499F-949D-15B127BE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AEEC-FEEA-42CF-9942-6C1BF36BD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CE7E-293A-456A-9616-22B39084E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8805-841B-422F-942F-AD6EB962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CFDF-7C6C-440A-A6FB-87054FBC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5773-3C2C-42E7-9C32-C9B88B24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1F6F-2169-41B7-BDAB-3FE9DEDF3D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9210-A761-4EB5-9E5E-8BC019222C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ject Over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any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er 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-level overview of progress against schedu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-track in what ar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hind in what ar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head in what are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expected delays or issu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Related Document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pla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dge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t morte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bmit ques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 or contact name/phon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ject Goal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ltimate goal of proj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lationship to other projec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-level timing goa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Descriptio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scribe the project in non-technical term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se following slides for discussing status, schedules, budget, etc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specification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mpetitive Analysi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itor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You may want to allocate one slide per competitor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ength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strengths relative to competito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akne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our weaknesses relative to competit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ompetitive Analysis, Cont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etito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rength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eakness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competitive analysis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chnology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w technology being us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s being adopt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ef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ndards specifically being ignor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rawbacks &amp; benefi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YA: define your acronyms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eam/Resourc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e assumptions about resources allocated to this projec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c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upport &amp; outside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ufacturing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rocedur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ighlight any procedural differences from regular projects of this typ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cuss requirements, benefits, and issues of using new procedur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procedures document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Schedul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view high-level schedule milestones he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OR MORE INFO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location or contact for detailed schedule (or other related documents)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72320" y="3352680"/>
            <a:ext cx="6476040" cy="1577160"/>
            <a:chOff x="1372320" y="3352680"/>
            <a:chExt cx="6476040" cy="1577160"/>
          </a:xfrm>
        </p:grpSpPr>
        <p:grpSp>
          <p:nvGrpSpPr>
            <p:cNvPr id="116" name=""/>
            <p:cNvGrpSpPr/>
            <p:nvPr/>
          </p:nvGrpSpPr>
          <p:grpSpPr>
            <a:xfrm>
              <a:off x="1372320" y="4267080"/>
              <a:ext cx="6476040" cy="662760"/>
              <a:chOff x="1372320" y="4267080"/>
              <a:chExt cx="6476040" cy="662760"/>
            </a:xfrm>
          </p:grpSpPr>
          <p:sp>
            <p:nvSpPr>
              <p:cNvPr id="117" name=""/>
              <p:cNvSpPr/>
              <p:nvPr/>
            </p:nvSpPr>
            <p:spPr>
              <a:xfrm>
                <a:off x="1447560" y="4267080"/>
                <a:ext cx="6400800" cy="486000"/>
              </a:xfrm>
              <a:prstGeom prst="rightArrow">
                <a:avLst>
                  <a:gd name="adj1" fmla="val 36602"/>
                  <a:gd name="adj2" fmla="val 54145"/>
                </a:avLst>
              </a:prstGeom>
              <a:gradFill rotWithShape="0">
                <a:gsLst>
                  <a:gs pos="0">
                    <a:srgbClr val="00ffcc"/>
                  </a:gs>
                  <a:gs pos="100000">
                    <a:srgbClr val="00ccff"/>
                  </a:gs>
                </a:gsLst>
                <a:lin ang="10800000"/>
              </a:gradFill>
              <a:ln w="0">
                <a:noFill/>
              </a:ln>
              <a:effectLst>
                <a:outerShdw dist="17819" dir="2700000" blurRad="0" rotWithShape="0">
                  <a:srgbClr val="007998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372320" y="462276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Ja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899720" y="462276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Fe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59880" y="4622760"/>
                <a:ext cx="497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056040" y="462276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p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26640" y="4622760"/>
                <a:ext cx="526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57000" y="4622760"/>
                <a:ext cx="496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Ju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794480" y="4622760"/>
                <a:ext cx="537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July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390640" y="4622760"/>
                <a:ext cx="50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950440" y="462276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Oc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500520" y="4622760"/>
                <a:ext cx="515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Nov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106760" y="4622760"/>
                <a:ext cx="50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De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1523880" y="3352680"/>
              <a:ext cx="2438280" cy="15264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ase 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962160" y="3657600"/>
              <a:ext cx="1905120" cy="15228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ase 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280" y="3962520"/>
              <a:ext cx="1676520" cy="152280"/>
            </a:xfrm>
            <a:prstGeom prst="flowChartProcess">
              <a:avLst/>
            </a:prstGeom>
            <a:solidFill>
              <a:srgbClr val="00ccff"/>
            </a:solidFill>
            <a:ln w="0">
              <a:noFill/>
            </a:ln>
            <a:effectLst>
              <a:outerShdw dist="17819" dir="2700000" blurRad="0" rotWithShape="0">
                <a:srgbClr val="00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Phase 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7T17:24:05Z</dcterms:created>
  <dc:creator>student1</dc:creator>
  <dc:description>This is my project presentation</dc:description>
  <cp:keywords>project </cp:keywords>
  <dc:language>en-US</dc:language>
  <cp:lastModifiedBy>jgaron</cp:lastModifiedBy>
  <dcterms:modified xsi:type="dcterms:W3CDTF">2007-07-27T17:26:01Z</dcterms:modified>
  <cp:revision>2</cp:revision>
  <dc:subject>My Project Overview</dc:subject>
  <dc:title>Project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